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512B2-51D4-4B24-84F0-BE1063C02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82BF2-5A7B-4D03-9014-294AEB0D4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BA66A-D673-4646-9B17-4520C5C10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DFAD9-EAE4-4753-9EB1-46F443D5C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EA137-581D-4C03-9ED2-21F4FCA59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DA8F7-7EA5-4F97-9F74-DFE7B491F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7B84B-8D57-4138-B16A-967938944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D78CD-5452-4BAF-A9EC-5F4501CA6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DBB96-7EEC-4E29-BFC2-2DDBB179C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D8C48-4F6F-44E1-AAB3-0E2667AB9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97891-A384-41AE-A069-AE3CD5E60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B58CD-B9CF-457D-BEC6-B2F7F835F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D5978-5311-4F97-BA77-F9C2438BE1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765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BOSITA’, LETALITA’ E MORTALITA’ DELLE AFFEZIONI BRONCOPOLMONARI OGGI</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oramica delle affezioni broncopolmonari sino al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699920"/>
            <a:ext cx="8229600" cy="28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Distribuzione territoriale e per gruppi di età delle broncopneumopatie in Italia nella popolazione maschile e femmini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0" y="259920"/>
            <a:ext cx="8964720" cy="6193080"/>
          </a:xfrm>
          <a:prstGeom prst="rect">
            <a:avLst/>
          </a:prstGeom>
          <a:noFill/>
          <a:ln w="0">
            <a:noFill/>
          </a:ln>
        </p:spPr>
        <p:txBody>
          <a:bodyPr lIns="90000" rIns="90000" tIns="46800" bIns="46800" anchor="t">
            <a:normAutofit fontScale="98000"/>
          </a:bodyPr>
          <a:p>
            <a:pPr marL="3358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Se si osserva la distribuzione territoriale in Italia dei tassi di ricovero ospedaliero per tutte le affezioni broncopolmonari cronico-ostruttive, primeggiano le zone insulari e tutto il Meridione con uno scarto, rispetto alle regioni del nord che in termini relativi a 100 è di oltre 200 punti. (Tab. 2 A). E del resto, considerando la prevalenza delle bronchiti e dell’asma bronchiale su ogni 1000 abitanti delle medesime ripartizioni territoriali, la frequenza modale di 49/1000 delle bronchiti appartiene all’Italia Insulare e Meridionale  e su un livello similare resta quella  relativa all’Italia Centrale con circa il 48/1000. La patologia asmatica ha invece la sua massima prevalenza nell’Italia Centrale (dove vi è stata una punta modale dell’Umbria).</a:t>
            </a:r>
            <a:endParaRPr b="0" lang="en-US" sz="1700" spc="-1" strike="noStrike">
              <a:solidFill>
                <a:srgbClr val="000000"/>
              </a:solidFill>
              <a:latin typeface="Arial"/>
            </a:endParaRPr>
          </a:p>
          <a:p>
            <a:pPr marL="3358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000000"/>
                </a:solidFill>
                <a:latin typeface="Arial"/>
              </a:rPr>
              <a:t> </a:t>
            </a:r>
            <a:r>
              <a:rPr b="0" lang="it-IT" sz="1700" spc="-1" strike="noStrike">
                <a:solidFill>
                  <a:srgbClr val="000000"/>
                </a:solidFill>
                <a:latin typeface="Arial"/>
              </a:rPr>
              <a:t>Se si osserva la suddivisione degli affetti da broncopneumopatie secondo gruppi di età negli uomini e nelle donne si rivelano altre diversificazioni di rilievo. L’asma colpisce maggiormente i  maschietti e i ragazzi sino alle prime età adulte con una frequenza modale che, rispetto a quella delle ragazze, è marcatamente più alta (tra i bambini e gli adolescenti 38/1000) e supera quella femminile sino al 24° anno di età (con ancora circa 30/1000) Tab.2 B). Rispetto alle affezioni  bronchitiche, quelle asmatiche predominano sia negli uomini che nelle donne sino al raggiungimento del 44° anno di età; superando tale soglia, sia negli uomini che nelle donne che vanno dalle età mature e ancora centrali sino alle ultime età più avanzate predominano largamente le bronchiti croniche (che come già accennato sono state rilevate prevalentemente nei casi in cui si presentava con enfisema polmonare). La frequenza di tale patologia manifesta peggioramenti più considerevoli tra gli uomini sino ai  sopravviventi delle età più avanzate ma con debita eccezione per le pazienti bronchitiche del solo gruppo di età centrali e mature (45-54 anni), dove la loro frequenza pressoché paritetica a quella degli uomini ( 29,7/1000) rappresenta un aumento relativo  rispetto a quelle di età precedente dell’83,3/100. Solamente tra i  giovani nelle età tra i 35 e i 44 anni si è manifestata una controtendenza alla riduzione delle frequenze bronchiali sino a 9/1000, che, indicizzata a 100, rappresenta un oscillazione di –23 punti sulla morbosità della generazione precedente; tuttavia il forte rialzo successivo della frequenza ai 35-44 anni neutralizza in parte tale contrazione riprendendo un ritmo di crescita  abbastanza sostenuto  sino al livello dei 253,4/1000 dei più anziani.</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39640" y="549360"/>
            <a:ext cx="813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395280" y="404640"/>
            <a:ext cx="8353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B 2 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RBOSITA' PER BRONCHITI CRONICHE (*) E ASMA BRONCHIALE E TASSI DI RICOVERO OSPEDALIERO PER BRONCOPNEUMOPATIE NELLE CIRCOSCRIZIONI REGIONALI ITALIANE (SU 1000 abit.)</a:t>
            </a:r>
            <a:endParaRPr b="0" lang="en-US" sz="1800" spc="-1" strike="noStrike">
              <a:solidFill>
                <a:srgbClr val="000000"/>
              </a:solidFill>
              <a:latin typeface="Arial"/>
            </a:endParaRPr>
          </a:p>
        </p:txBody>
      </p:sp>
      <p:sp>
        <p:nvSpPr>
          <p:cNvPr id="60" name=""/>
          <p:cNvSpPr/>
          <p:nvPr/>
        </p:nvSpPr>
        <p:spPr>
          <a:xfrm>
            <a:off x="6012000" y="6381720"/>
            <a:ext cx="28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mprensive di enfisema polmonare</a:t>
            </a:r>
            <a:endParaRPr b="0" lang="en-US" sz="1000" spc="-1" strike="noStrike">
              <a:solidFill>
                <a:srgbClr val="000000"/>
              </a:solidFill>
              <a:latin typeface="Arial"/>
            </a:endParaRPr>
          </a:p>
        </p:txBody>
      </p:sp>
      <p:graphicFrame>
        <p:nvGraphicFramePr>
          <p:cNvPr id="61" name=""/>
          <p:cNvGraphicFramePr/>
          <p:nvPr/>
        </p:nvGraphicFramePr>
        <p:xfrm>
          <a:off x="1332000" y="2276640"/>
          <a:ext cx="6346800" cy="3705120"/>
        </p:xfrm>
        <a:graphic>
          <a:graphicData uri="http://schemas.openxmlformats.org/drawingml/2006/table">
            <a:tbl>
              <a:tblPr/>
              <a:tblGrid>
                <a:gridCol w="2414520"/>
                <a:gridCol w="1201680"/>
                <a:gridCol w="1535040"/>
                <a:gridCol w="1195560"/>
              </a:tblGrid>
              <a:tr h="4467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ipartizioni territorial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rbosità prevalen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ssi di ricove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ronchit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m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5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rd Ovest</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5</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7,2</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8</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447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rd Est</a:t>
                      </a:r>
                      <a:endParaRPr b="0" lang="en-US" sz="16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9,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4,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4</a:t>
                      </a:r>
                      <a:endParaRPr b="0" lang="en-US" sz="16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4467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entro It.</a:t>
                      </a:r>
                      <a:endParaRPr b="0" lang="en-US" sz="16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7,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1,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8</a:t>
                      </a:r>
                      <a:endParaRPr b="0" lang="en-US" sz="16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447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d</a:t>
                      </a:r>
                      <a:endParaRPr b="0" lang="en-US" sz="16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8,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1,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9</a:t>
                      </a:r>
                      <a:endParaRPr b="0" lang="en-US" sz="16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445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sole</a:t>
                      </a:r>
                      <a:endParaRPr b="0" lang="en-US" sz="16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9,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1,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2</a:t>
                      </a:r>
                      <a:endParaRPr b="0" lang="en-US" sz="16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446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ALIA</a:t>
                      </a:r>
                      <a:endParaRPr b="0" lang="en-US" sz="16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4,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5,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1</a:t>
                      </a:r>
                      <a:endParaRPr b="0" lang="en-US" sz="1600" spc="-1" strike="noStrike">
                        <a:solidFill>
                          <a:srgbClr val="000000"/>
                        </a:solidFill>
                        <a:latin typeface="Arial"/>
                      </a:endParaRPr>
                    </a:p>
                  </a:txBody>
                  <a:tcPr anchor="b" marL="90000" marR="90000">
                    <a:lnL>
                      <a:noFill/>
                    </a:lnL>
                    <a:lnR w="5760">
                      <a:solidFill>
                        <a:srgbClr val="000000"/>
                      </a:solid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611280" y="260280"/>
          <a:ext cx="7777080" cy="3384720"/>
        </p:xfrm>
        <a:graphic>
          <a:graphicData uri="http://schemas.openxmlformats.org/presentationml/2006/ole">
            <p:oleObj progId="Excel.Sheet.12" r:id="rId1" spid="">
              <p:embed/>
              <p:pic>
                <p:nvPicPr>
                  <p:cNvPr id="63" name="" descr=""/>
                  <p:cNvPicPr/>
                  <p:nvPr/>
                </p:nvPicPr>
                <p:blipFill>
                  <a:blip r:embed="rId2"/>
                  <a:stretch/>
                </p:blipFill>
                <p:spPr>
                  <a:xfrm>
                    <a:off x="611280" y="260280"/>
                    <a:ext cx="7777080" cy="3384720"/>
                  </a:xfrm>
                  <a:prstGeom prst="rect">
                    <a:avLst/>
                  </a:prstGeom>
                  <a:ln w="0">
                    <a:noFill/>
                  </a:ln>
                </p:spPr>
              </p:pic>
            </p:oleObj>
          </a:graphicData>
        </a:graphic>
      </p:graphicFrame>
      <p:graphicFrame>
        <p:nvGraphicFramePr>
          <p:cNvPr id="64" name=""/>
          <p:cNvGraphicFramePr/>
          <p:nvPr/>
        </p:nvGraphicFramePr>
        <p:xfrm>
          <a:off x="1476360" y="3645000"/>
          <a:ext cx="5904000" cy="3213000"/>
        </p:xfrm>
        <a:graphic>
          <a:graphicData uri="http://schemas.openxmlformats.org/presentationml/2006/ole">
            <p:oleObj progId="Excel.Sheet.12" r:id="rId3" spid="">
              <p:embed/>
              <p:pic>
                <p:nvPicPr>
                  <p:cNvPr id="65" name="" descr=""/>
                  <p:cNvPicPr/>
                  <p:nvPr/>
                </p:nvPicPr>
                <p:blipFill>
                  <a:blip r:embed="rId4"/>
                  <a:stretch/>
                </p:blipFill>
                <p:spPr>
                  <a:xfrm>
                    <a:off x="1476360" y="3645000"/>
                    <a:ext cx="5904000" cy="321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333360"/>
            <a:ext cx="88930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AB 2 b</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ORBOSITA' PER BRONCHITI E ASMA BRONCHIALE  SECONDO GRUPPI DI ETA' E SESSO SU 1000 ITALIANI</a:t>
            </a:r>
            <a:endParaRPr b="0" lang="en-US" sz="1600" spc="-1" strike="noStrike">
              <a:solidFill>
                <a:srgbClr val="000000"/>
              </a:solidFill>
              <a:latin typeface="Arial"/>
            </a:endParaRPr>
          </a:p>
        </p:txBody>
      </p:sp>
      <p:graphicFrame>
        <p:nvGraphicFramePr>
          <p:cNvPr id="67" name=""/>
          <p:cNvGraphicFramePr/>
          <p:nvPr/>
        </p:nvGraphicFramePr>
        <p:xfrm>
          <a:off x="324000" y="1700280"/>
          <a:ext cx="8496000" cy="3890880"/>
        </p:xfrm>
        <a:graphic>
          <a:graphicData uri="http://schemas.openxmlformats.org/drawingml/2006/table">
            <a:tbl>
              <a:tblPr/>
              <a:tblGrid>
                <a:gridCol w="944280"/>
                <a:gridCol w="866880"/>
                <a:gridCol w="984240"/>
                <a:gridCol w="1028880"/>
                <a:gridCol w="925200"/>
                <a:gridCol w="911520"/>
                <a:gridCol w="1014120"/>
                <a:gridCol w="954360"/>
                <a:gridCol w="866520"/>
              </a:tblGrid>
              <a:tr h="335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UOMINI</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ONNE</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Gruppi di età</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ONCHITI</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SMA BRONCHIALE</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ONCO POLMONITI</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POLMONITI</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ONCHITI</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SMA BRONCHIALE</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RONCO POLMONITI</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OLMONITI</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gt;14</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8,6</a:t>
                      </a:r>
                      <a:endParaRPr b="0" lang="en-US" sz="13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38,1</a:t>
                      </a:r>
                      <a:endParaRPr b="0" lang="en-US" sz="13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5,4</a:t>
                      </a:r>
                      <a:endParaRPr b="0" lang="en-US" sz="13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19,6</a:t>
                      </a:r>
                      <a:endParaRPr b="0" lang="en-US" sz="13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15-24</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11,9</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29,8</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10,1</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23,4</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25-34</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9,1</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26,3</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11,5</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28,1</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35-44</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19,3</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25,7</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16,2</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31,6</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45-54</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29,4</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25,1</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29,7</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23,3</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55-64</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64,5</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34,9</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2,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55,2</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33,1</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65-74</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117,1</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57,3</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91,8</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51,9</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75-79</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224,4</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94,3</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120,5</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58,7</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2,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80e&lt;</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253,4</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107,8</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157,6</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74,5</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27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plesso</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48,1</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37,1</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7</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6</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41,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36,8</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5</a:t>
                      </a:r>
                      <a:endParaRPr b="0" lang="en-US" sz="1300" spc="-1" strike="noStrike">
                        <a:solidFill>
                          <a:srgbClr val="000000"/>
                        </a:solidFill>
                        <a:latin typeface="Arial"/>
                      </a:endParaRPr>
                    </a:p>
                  </a:txBody>
                  <a:tcPr anchor="b" marL="90000" marR="90000">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395280" y="549360"/>
          <a:ext cx="4083120" cy="5505480"/>
        </p:xfrm>
        <a:graphic>
          <a:graphicData uri="http://schemas.openxmlformats.org/presentationml/2006/ole">
            <p:oleObj progId="Excel.Sheet.12" r:id="rId1" spid="">
              <p:embed/>
              <p:pic>
                <p:nvPicPr>
                  <p:cNvPr id="69" name="" descr=""/>
                  <p:cNvPicPr/>
                  <p:nvPr/>
                </p:nvPicPr>
                <p:blipFill>
                  <a:blip r:embed="rId2"/>
                  <a:stretch/>
                </p:blipFill>
                <p:spPr>
                  <a:xfrm>
                    <a:off x="395280" y="549360"/>
                    <a:ext cx="4083120" cy="5505480"/>
                  </a:xfrm>
                  <a:prstGeom prst="rect">
                    <a:avLst/>
                  </a:prstGeom>
                  <a:ln w="0">
                    <a:noFill/>
                  </a:ln>
                </p:spPr>
              </p:pic>
            </p:oleObj>
          </a:graphicData>
        </a:graphic>
      </p:graphicFrame>
      <p:graphicFrame>
        <p:nvGraphicFramePr>
          <p:cNvPr id="70" name=""/>
          <p:cNvGraphicFramePr/>
          <p:nvPr/>
        </p:nvGraphicFramePr>
        <p:xfrm>
          <a:off x="4716360" y="549360"/>
          <a:ext cx="4037040" cy="5505480"/>
        </p:xfrm>
        <a:graphic>
          <a:graphicData uri="http://schemas.openxmlformats.org/presentationml/2006/ole">
            <p:oleObj progId="Excel.Sheet.12" r:id="rId3" spid="">
              <p:embed/>
              <p:pic>
                <p:nvPicPr>
                  <p:cNvPr id="71" name="" descr=""/>
                  <p:cNvPicPr/>
                  <p:nvPr/>
                </p:nvPicPr>
                <p:blipFill>
                  <a:blip r:embed="rId4"/>
                  <a:stretch/>
                </p:blipFill>
                <p:spPr>
                  <a:xfrm>
                    <a:off x="4716360" y="549360"/>
                    <a:ext cx="4037040" cy="550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900" spc="-1" strike="noStrike">
                <a:solidFill>
                  <a:srgbClr val="000000"/>
                </a:solidFill>
                <a:latin typeface="Arial"/>
              </a:rPr>
              <a:t>Le frequenze di morbosità su ogni 1000 italiani delle broncopolmoniti e delle polmoniti sono riferiti a più ampi raggruppamenti di età perché ineriscono solamente i casi di incidenza  di queste patologie abbracciandone solo i nuovi casi intervenuti nell’anno di osservazione insieme a quelli già esistenti  o insorgenti nel periodo dell’indagine statistica. Tali gruppi di età più ampi consentono una valutazione più approssimata sulla ricorrenza di queste patologie che,ad eccezione delle età più giovani e sino alla soglia dei 34 anni e ad esclusione delle pazienti con diagnosi di polmonite già nelle età senili ma entro i 74 anni colpiscono in maggior misura gli uomini. Purtroppo, come si è già precedentemente accennato le documentazioni statistiche italiane sulla mortalità anche per queste patologie sono ancora meno aggiornate di quelle già osservate della morbosità prevalente delle broncopneumopatie. Essendo stata resa nota solo da pochi giorni e in  solo formato elettronico la suddivisione dei decessi in Italia dell’anno 2003 causati da bronchiti, asma,  polmoniti e broncopolmoniti, ora redatta con una nuova codifica internazionale, si è preferito analizzare anche la mortalità inerente alla documentazione del 2002 ; ciò alla luce di qualche lieve sfasamento nella classifica delle morti per bronchiti che avere alterarto, sia pure parzialmente, la vera consistenza dei deceduti: questi infatti appaiono in quest’ultima epoca di riferimento particolarmente ridott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11280" y="2204640"/>
            <a:ext cx="8229600" cy="25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La mortalità per broncopneumopatie in italia attraverso le età e il genere della popolazion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620640"/>
            <a:ext cx="8362800" cy="5904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800" spc="-1" strike="noStrike">
                <a:solidFill>
                  <a:srgbClr val="000000"/>
                </a:solidFill>
                <a:latin typeface="Arial"/>
              </a:rPr>
              <a:t>E’ ben vero comunque e facilmente comprensibile che la mortalità causata da broncopneumopatie  assume una sua consistenza solo nella popolazione a partire dai pazienti in età matura e pre-senile (Tab. 3), già oltre i 55 anni di età; ciò sebbene siano sempre i pazienti affetti  da polmoniti in maggior misura che quelli affetti da broncopolmoniti  a morire con frequenze più elevate tra le donne, ancora sino all’epoca del 2002, e partendo da queste età mature, la mortalità restava però superiore tra gli affetti da bronchiti sino ai pazienti con le età più avanzate. Nell’anno 2003, manifestandosi una sensibile riduzione  tra i deceduti per bronchiti croniche e/o acute, la mortalità causata da broncopolmoniti e polmoniti ha avuto il sopravvento sia tra gli uomini che tra le donne presentando vistosi aumenti dalle coorti di età dei 55-64 anni (ancora con il tasso di solo 3/100000) sino a quelle di età più avanzata  (oltre 80 anni) con i 321 /100.000 degli uomini e i circa158/100.000 delle donne. Ai più bassi livelli si trova naturalmente la mortalità per asma, che però rivela meno divergenze di andamento tra uomini e donne colpiti al 2003 pervenendo nelle ultime età avanzate ad una frequenza modale paritetica di 24,5. In queste ultime età la mortalità causata da polmoniti e broncopolmoniti è invece sensibilmente più appariscente tra i deceduti rispetto a quello  delle donne decedute, e soprattutto nel 2003. In genere questi livelli di mortalità sono sempre maggiori anche rispetto alle sole patologie bronchiali osservate sui pazienti deceduti a partire dalle età dei 65 anni (con già 15 casi su 100.000). Le fluttuazioni avvenute nella mortalità per bronchiti attraverso il procedere delle età dei deceduti possono meglio riscontrarsi attraverso gli indici  di variazione concatenati su base 100 che sono stati messi a confronto con quelli inerenti all’andamento della morbosità bronchiale per i gruppi di età prevalentemente paritetici cui ci si è riferi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58920" y="189000"/>
            <a:ext cx="878508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AB 3</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RTALITA' CAUSATA DALLE PRINCIPALI PATOLOGIE RESPIRATORIE IN ITALIA SECONDO IL SESSO E GRUPPI DI ETA' AL 2002 E AL 2003 (SU 100.000  ABITANTI)</a:t>
            </a:r>
            <a:endParaRPr b="0" lang="en-US" sz="1200" spc="-1" strike="noStrike">
              <a:solidFill>
                <a:srgbClr val="000000"/>
              </a:solidFill>
              <a:latin typeface="Arial"/>
            </a:endParaRPr>
          </a:p>
        </p:txBody>
      </p:sp>
      <p:graphicFrame>
        <p:nvGraphicFramePr>
          <p:cNvPr id="76" name=""/>
          <p:cNvGraphicFramePr/>
          <p:nvPr/>
        </p:nvGraphicFramePr>
        <p:xfrm>
          <a:off x="179280" y="1111320"/>
          <a:ext cx="8713800" cy="4908600"/>
        </p:xfrm>
        <a:graphic>
          <a:graphicData uri="http://schemas.openxmlformats.org/drawingml/2006/table">
            <a:tbl>
              <a:tblPr/>
              <a:tblGrid>
                <a:gridCol w="647640"/>
                <a:gridCol w="576360"/>
                <a:gridCol w="720720"/>
                <a:gridCol w="719280"/>
                <a:gridCol w="720720"/>
                <a:gridCol w="720720"/>
                <a:gridCol w="647640"/>
                <a:gridCol w="719280"/>
                <a:gridCol w="649080"/>
                <a:gridCol w="576360"/>
                <a:gridCol w="647640"/>
                <a:gridCol w="647640"/>
                <a:gridCol w="720720"/>
              </a:tblGrid>
              <a:tr h="797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Gruppi di età</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OMINI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ctr">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 O N N 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9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ronchiti</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ma bronchia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Polmoniti e bronco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ronchiti</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ma bronchia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Polmoniti e bronco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89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no 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no 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no 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no 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no 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no 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no 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no 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no 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no 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no 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no 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3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1</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5-4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5-5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7</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6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5</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5-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4,4</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9</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5-8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4</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8,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3</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9,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1</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1 e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40,1</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6,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9.3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4,3</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24,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21,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3,3</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4,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4,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7,8</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44496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tal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8</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3</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7</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3</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9</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lle relazioni precedenti si è potuto constatare quanto le tipologie e la composizione chimica dei contaminanti atmosferici sia variata anche rispetto a quella di 10 anni fa colpendo anche i centri urbani meno estesi e addensati rispetto alle grandi metropoli, e ciò anche a causa delle variazioni climatiche delle stagioni che hanno intensificato l’azione degli allergeni. Purtroppo ancor oggi ci si può avvalere di documentazioni statistiche lacunose e purtroppo poco aggiornate per una disamina  della situazione epidemiologica esauriente,  ciò sia per potere procedere a dei confronti spazio-temporali sulla incidenza della morbosità, della mortalità e sul rischio da esposizione, sia per potere  intraprendere convenienti relazioni statistiche associative tra l’andamento della morbosità bronchiale  nella popolazione più esposta al rischio di assorbimento e la quantità di contaminazione oltre soglia di molti centri urbani. Infatti i dati nazionali più recenti e disaggregati per causa ed età sulla patologie respiratorie si riferiscono all’anno 2005 e quelli così disaggregati già pubblicati sulla mortalità si riferirebbero ancora all’epoca del 2002, perché solo da pochi giorni  sono comparsi via on line  casi di morte  in Italia dell’anno 2003. Ciò premesso si ritiene opportuno considerare gli indici dei livelli  di morbosità, letalità e mortalità  non come specifica e puntuale valutazione longitudinale delle patologie respiratorie oggi trattate,  bensì come elementi di riferimento di insieme  e al tempo stesso utili indici di differenziazioni, sia all’interno della popolazione italiana tra le fasce di età nei due generi  e nelle circoscrizioni regionali , sia nei relativi e possibili confronti con le stime di altri paesi europei  o extraeuropei.</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 livelli che possiamo considerare i più recenti della morbosità relativa alle bronchiti croniche  e all’asma bronchiale in Italia (epoca 2005) danno una prevalenza della patologia bronchiale (riferita soprattutto alle bronchiti con enfisema) del 48/1000 e della patologia asmatica di circa il 42/1000 (tab. 1 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133360"/>
            <a:ext cx="8229600" cy="25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ci di variazione sulla mortalità e indici di letalit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476280"/>
            <a:ext cx="8229600" cy="6192720"/>
          </a:xfrm>
          <a:prstGeom prst="rect">
            <a:avLst/>
          </a:prstGeom>
          <a:noFill/>
          <a:ln w="0">
            <a:noFill/>
          </a:ln>
        </p:spPr>
        <p:txBody>
          <a:bodyPr lIns="90000" rIns="90000" tIns="46800" bIns="46800" anchor="t">
            <a:normAutofit fontScale="99000"/>
          </a:bodyPr>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Osservando tali indici (Tab.4) si conviene che su base 100, tra gli uomini  che si ammalano di bronchiti il più forte aumento nella frequenza di malattia avviene nel passaggio tra il completamento dei 54 anni di età e l’ingresso nelle età dei 55-64 anni: 119,4/100 in più; mentre tra le donne, proporzionalmente a 100, gli aumenti sono più rilevanti tra le più giovani passando dalle età dell’adolescenza alle prime età adulte: 87,1/100 di più. Solo parzialmente tali comportamenti si diversificano da quelli presentati dall’analisi della mortalità per età: infatti al 2003, solamente tra gli uomini deceduti il peggioramento resta più marcato nelle medesime età  (dei 55-64 anni) in cui si è verificato il maggiore aumento di ammalati: 580/100 in più di mortalità e  119,4/100 di più nel tasso dei pazienti.. Differentemente le pazienti affette da bronchiti croniche hanno accusato un massimo aumento di mortalità solo tra le anziane in età più avanzata, dove l’indice in base 100 mostra rispetto alle decedute più giovani di 10 anni, una recrudescenza di 583,6/100. </a:t>
            </a: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Gli indicatori della letalità (Tab.5) che mostrano il rischio di contrarre queste patologie respiratorie per gli esposti alle varie età, si sono potuti considerare  riguardo all’insieme delle patologie bronchiali ed asmatiche e solamente in base all’epoca del 2002, non potendo disporre di sufficienti documentazioni di morbosità per le polmoniti e broncopolmoniti inerenti gli affetti nella medesima epoca adoperata per la mortalità e  non potendo usufruire nemmeno delle frequenze relative alle bronchiti e all’asma per l’epoca del 2003  e dei dati sui deceduti per l’epoca del 2005. Gli indici esprimenti tale rischio (Tab.5) che si elaborano su ogni 1000  soggetti già deceduti, mostrano valori superiori ad 1/1000 solo a partire dalle fasce di popolazione con età di oltre 55 anni: tra gli uomini la letalità raggiunge 1,223/1000 in coloro che hanno già completato i 55 anni di età; invece tra le donne solamente quelle  che hanno finito i 65 anni  e sopravvivono sino alle età più anziane sono realmente esposte  ad una tangibile letalità di oltre l’1/1000.</a:t>
            </a: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E’ auspicabile che sin dal prossimo futuro più complete e aggiornate documentazioni predisposte dagli organi competenti possano consentirci di analizzare il fenomeno con maggiori dettegli onde verificare i sistemi di prevenzione e predisporre terapie e stili di vita più mirati per la difesa da tali affezioni e il loro facile acutizzarsi sino al rischio di mor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68360" y="476280"/>
            <a:ext cx="8351640" cy="6696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B 4</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UMERI INDICI CONCATENATI SUI TASSI DI MORTALITA' E DI MORBOSITA' PREVALENTE </a:t>
            </a:r>
            <a:endParaRPr b="0" lang="en-US" sz="1500" spc="-1" strike="noStrike">
              <a:solidFill>
                <a:srgbClr val="000000"/>
              </a:solidFill>
              <a:latin typeface="Arial"/>
            </a:endParaRPr>
          </a:p>
        </p:txBody>
      </p:sp>
      <p:sp>
        <p:nvSpPr>
          <p:cNvPr id="80" name=""/>
          <p:cNvSpPr/>
          <p:nvPr/>
        </p:nvSpPr>
        <p:spPr>
          <a:xfrm>
            <a:off x="3976560" y="2376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803920" y="2376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2" name=""/>
          <p:cNvGraphicFramePr/>
          <p:nvPr/>
        </p:nvGraphicFramePr>
        <p:xfrm>
          <a:off x="1258920" y="1916280"/>
          <a:ext cx="6481800" cy="3281040"/>
        </p:xfrm>
        <a:graphic>
          <a:graphicData uri="http://schemas.openxmlformats.org/drawingml/2006/table">
            <a:tbl>
              <a:tblPr/>
              <a:tblGrid>
                <a:gridCol w="1081080"/>
                <a:gridCol w="1104840"/>
                <a:gridCol w="1055880"/>
                <a:gridCol w="1079280"/>
                <a:gridCol w="1103400"/>
                <a:gridCol w="1057320"/>
              </a:tblGrid>
              <a:tr h="27648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uppi di età</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rbosità bronchia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uppi di età</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rtalità bronchia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omini</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n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omini</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n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Index/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Index/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14</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6)</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4)</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24</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8,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1</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24</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34</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9</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34</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5-44</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2,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0,9</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5-44</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5-54</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2,3</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3,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5-54</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0,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00</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64</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9,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9</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5-64</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80,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0</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5-74</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1,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6,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5-74</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85,3</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5-80</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5-84</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69,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5,6</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1&lt;</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9</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0,8</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lt;</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82,8</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83,6</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50920" y="260280"/>
            <a:ext cx="8713800" cy="8978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TAB 5</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LETALITA' RELATIVA ALLE BRONCHITI E ALL'ASMA BRONCHIALE SECONDO IL SESSO E I GRUPPI DI ETA' NELLA POPOLAZIONE ITALIANA</a:t>
            </a:r>
            <a:endParaRPr b="0" lang="en-US" sz="1500" spc="-1" strike="noStrike">
              <a:solidFill>
                <a:srgbClr val="000000"/>
              </a:solidFill>
              <a:latin typeface="Arial"/>
            </a:endParaRPr>
          </a:p>
        </p:txBody>
      </p:sp>
      <p:graphicFrame>
        <p:nvGraphicFramePr>
          <p:cNvPr id="84" name=""/>
          <p:cNvGraphicFramePr/>
          <p:nvPr/>
        </p:nvGraphicFramePr>
        <p:xfrm>
          <a:off x="1476360" y="2276640"/>
          <a:ext cx="5618160" cy="2423880"/>
        </p:xfrm>
        <a:graphic>
          <a:graphicData uri="http://schemas.openxmlformats.org/drawingml/2006/table">
            <a:tbl>
              <a:tblPr/>
              <a:tblGrid>
                <a:gridCol w="2075040"/>
                <a:gridCol w="1817640"/>
                <a:gridCol w="1725480"/>
              </a:tblGrid>
              <a:tr h="4906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Gruppi di età</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UOMINI</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DONN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15-24</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0,2</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0,1</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222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25-34</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0,2</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0,1</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222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34-44</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0,6</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0,1</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222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45-54</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0,7</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0,4</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222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55-64</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1,23</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0,6</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222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75 e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16,5</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1,5</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1908000" y="3573360"/>
          <a:ext cx="5256360" cy="2689200"/>
        </p:xfrm>
        <a:graphic>
          <a:graphicData uri="http://schemas.openxmlformats.org/drawingml/2006/table">
            <a:tbl>
              <a:tblPr/>
              <a:tblGrid>
                <a:gridCol w="1138320"/>
                <a:gridCol w="1020960"/>
                <a:gridCol w="1009440"/>
                <a:gridCol w="1079640"/>
                <a:gridCol w="1008000"/>
              </a:tblGrid>
              <a:tr h="42192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ruppi di età</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ronchite cronic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sma bronchial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1994-9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4-0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94-9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4-0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lt;24</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4</a:t>
                      </a:r>
                      <a:endParaRPr b="0" lang="en-US" sz="16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5</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5</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7,9</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44</a:t>
                      </a:r>
                      <a:endParaRPr b="0" lang="en-US" sz="16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3,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a:t>
                      </a:r>
                      <a:endParaRPr b="0" lang="en-US" sz="16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1</a:t>
                      </a:r>
                      <a:endParaRPr b="0" lang="en-US" sz="16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5</a:t>
                      </a:r>
                      <a:endParaRPr b="0" lang="en-US" sz="16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64</a:t>
                      </a:r>
                      <a:endParaRPr b="0" lang="en-US" sz="16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1,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5,1</a:t>
                      </a:r>
                      <a:endParaRPr b="0" lang="en-US" sz="16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3,2</a:t>
                      </a:r>
                      <a:endParaRPr b="0" lang="en-US" sz="16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5,7</a:t>
                      </a:r>
                      <a:endParaRPr b="0" lang="en-US" sz="16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5-&lt;</a:t>
                      </a:r>
                      <a:endParaRPr b="0" lang="en-US" sz="16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8,4</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45,6</a:t>
                      </a:r>
                      <a:endParaRPr b="0" lang="en-US" sz="16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4,2</a:t>
                      </a:r>
                      <a:endParaRPr b="0" lang="en-US" sz="16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7,6</a:t>
                      </a:r>
                      <a:endParaRPr b="0" lang="en-US" sz="16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3373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e</a:t>
                      </a:r>
                      <a:endParaRPr b="0" lang="en-US" sz="16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1</a:t>
                      </a:r>
                      <a:endParaRPr b="0" lang="en-US" sz="16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9,3</a:t>
                      </a:r>
                      <a:endParaRPr b="0" lang="en-US" sz="16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6</a:t>
                      </a:r>
                      <a:endParaRPr b="0" lang="en-US" sz="1600" spc="-1" strike="noStrike">
                        <a:solidFill>
                          <a:srgbClr val="000000"/>
                        </a:solidFill>
                        <a:latin typeface="Arial"/>
                      </a:endParaRPr>
                    </a:p>
                  </a:txBody>
                  <a:tcPr anchor="b" marL="90000" marR="90000">
                    <a:lnL>
                      <a:noFill/>
                    </a:lnL>
                    <a:lnR w="5760">
                      <a:solidFill>
                        <a:srgbClr val="000000"/>
                      </a:solidFill>
                    </a:lnR>
                    <a:lnT>
                      <a:noFill/>
                    </a:lnT>
                    <a:lnB>
                      <a:noFill/>
                    </a:lnB>
                    <a:noFill/>
                  </a:tcPr>
                </a:tc>
              </a:tr>
            </a:tbl>
          </a:graphicData>
        </a:graphic>
      </p:graphicFrame>
      <p:sp>
        <p:nvSpPr>
          <p:cNvPr id="45" name=""/>
          <p:cNvSpPr/>
          <p:nvPr/>
        </p:nvSpPr>
        <p:spPr>
          <a:xfrm>
            <a:off x="1042920" y="1125360"/>
            <a:ext cx="691380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b.1 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RBOSITA' PREVALENTE PER BRONCHITE CRONICA (CON ENFISEMA) E ASMA BRONCHIALE IN ITALIA AL1994-95 E AL 2004-05 PER GRANDI GRUPPI DI ET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u 1000 abitan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68360" y="274680"/>
          <a:ext cx="8207280" cy="6033960"/>
        </p:xfrm>
        <a:graphic>
          <a:graphicData uri="http://schemas.openxmlformats.org/presentationml/2006/ole">
            <p:oleObj progId="Excel.Sheet.12" r:id="rId1" spid="">
              <p:embed/>
              <p:pic>
                <p:nvPicPr>
                  <p:cNvPr id="47" name="" descr=""/>
                  <p:cNvPicPr/>
                  <p:nvPr/>
                </p:nvPicPr>
                <p:blipFill>
                  <a:blip r:embed="rId2"/>
                  <a:stretch/>
                </p:blipFill>
                <p:spPr>
                  <a:xfrm>
                    <a:off x="468360" y="274680"/>
                    <a:ext cx="8207280" cy="603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457200" y="274680"/>
          <a:ext cx="8229600" cy="6176880"/>
        </p:xfrm>
        <a:graphic>
          <a:graphicData uri="http://schemas.openxmlformats.org/presentationml/2006/ole">
            <p:oleObj progId="Excel.Sheet.12" r:id="rId1" spid="">
              <p:embed/>
              <p:pic>
                <p:nvPicPr>
                  <p:cNvPr id="49" name="" descr=""/>
                  <p:cNvPicPr/>
                  <p:nvPr/>
                </p:nvPicPr>
                <p:blipFill>
                  <a:blip r:embed="rId2"/>
                  <a:stretch/>
                </p:blipFill>
                <p:spPr>
                  <a:xfrm>
                    <a:off x="457200" y="274680"/>
                    <a:ext cx="822960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250920" y="333360"/>
            <a:ext cx="8640720" cy="65246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 un primo sguardo d’insieme alla distribuzione per età emerge che nel gruppo dei più giovani  sino alle prime età adulte vi è una prevalenza di  circa il 9/1000  di affetti da bronchiti croniche e di circa il 28/1000 di affetti da asma bronchiale. Rispetto all’anno 1994-95, a distanza cioè di10 anni, si ha un peggioramento che ha contrassegnato in ambedue le patologie la popolazione relativamente giovane sino all’incedere dei 45 anni di età e che avviene con una maggiore incidenza tra ragazzi sino alle prime età adulte dei 24 anni compiuti. Il peggioramento in questo decennio ha però  caratterizzato soprattutto l’asma bronchiale, data la sua prevalenza più che raddoppiata che rappresenta un aumento che indicizzato a 100, tra i più giovani è di 106,7/100 e tra i meno giovani verso le età centrali è di 135,5/100.. Assolutamente meno vistosi sono stati invece i peggioramenti nella popolazione giovane affetta da bronchite cronica, quello più lieve caratterizza o pazienti del gruppo di età dei 25-44 anni. Ma oltrepassando tale livello di età, nonostante la situazione di tali morbosità si ribalti a sfavore della patologia bronchiale sino ai soggetti in età più avanzata, ancora sino ai 64 anni di età i peggioramenti avvenuti in questi 10 anni  restano superiori nelle frequenze dell’asma dove la quota dei 55,7/1000 rappresenta  un avvenuto aumento relativo di circa 68/100 rispetto all’epoca del 1994-95, e solamente a partire  dai  pazienti delle prime età senili i livelli delle due patologie si riducono, e con una particolare accentuazione quelli dell’asma che diminuiscono di circa il 20/100 raggiungendo il 67,6/1000 tra coloro che sopravvivono in tutte le età superiori ai 65 anni dove invece i pazienti bronchitici costituiscono  circa 146/1000 italian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29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ronti internazional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2200" spc="-1" strike="noStrike">
                <a:solidFill>
                  <a:srgbClr val="000000"/>
                </a:solidFill>
                <a:latin typeface="Arial"/>
              </a:rPr>
              <a:t>Se per una panoramica d’insieme consideriamo la frequenza di tutte le broncopenumopatie comprendendovi le polmoniti e le forme croniche ostruttive nella loro prevalenza rispetto a tutte le altre malattie croniche in alcuni paesi europei che ne hanno notificato la frequenza (Tab 1 B) per epoche ancora intorno al 2005, il Paese dove probabilmente si ha una maggiore prevalenza è il Belgio, dove viene registrato il valore modale di 53/1000, mentre, tra le regioni europee orientali, dopo la predominanza della Federazione Russa (circa 26/1000), appare notevole la prevalenza di broncopneumopatie in Romania (12/1000). Tra i tassi di ricovero ospedaliero per il medesimo gruppo di patologie in queste regioni europee, il più alto  tasso all’epoca del 2005 si presenta  quello registrato in Italia (4/1000);  per gli altri paesi le epoche di riferimento sono purtroppo più lontane  (non superando la data del 2003), e, tra le regioni europee orientali, era ancora la Romania ad avere il tasso dei ricoveri più alto anche relativamente all’asma bronchiale: 5,1/1000 e 1,8/1000 rispettivamente in ambedue le tipologie del ricovero.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TAB.1 B</a:t>
            </a:r>
            <a:br>
              <a:rPr sz="1500"/>
            </a:br>
            <a:r>
              <a:rPr b="0" lang="it-IT" sz="1500" spc="-1" strike="noStrike">
                <a:solidFill>
                  <a:srgbClr val="000000"/>
                </a:solidFill>
                <a:latin typeface="Arial"/>
              </a:rPr>
              <a:t>CONFRONTI  DELLA MORBOSITA' PREVALENTE  E DEI TASSI DI RICOVERO  PER BRONCOPNEUMOPATIE E ASMA IN ALCUNI PAESI EUROPEI (su 1000 Abit.)</a:t>
            </a:r>
            <a:endParaRPr b="0" lang="en-US" sz="1500" spc="-1" strike="noStrike">
              <a:solidFill>
                <a:srgbClr val="000000"/>
              </a:solidFill>
              <a:latin typeface="Arial"/>
            </a:endParaRPr>
          </a:p>
        </p:txBody>
      </p:sp>
      <p:sp>
        <p:nvSpPr>
          <p:cNvPr id="54" name=""/>
          <p:cNvSpPr/>
          <p:nvPr/>
        </p:nvSpPr>
        <p:spPr>
          <a:xfrm>
            <a:off x="1116000" y="1989000"/>
            <a:ext cx="69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 name=""/>
          <p:cNvGraphicFramePr/>
          <p:nvPr/>
        </p:nvGraphicFramePr>
        <p:xfrm>
          <a:off x="457200" y="1600200"/>
          <a:ext cx="8229600" cy="4672080"/>
        </p:xfrm>
        <a:graphic>
          <a:graphicData uri="http://schemas.openxmlformats.org/drawingml/2006/table">
            <a:tbl>
              <a:tblPr/>
              <a:tblGrid>
                <a:gridCol w="1724040"/>
                <a:gridCol w="2271600"/>
                <a:gridCol w="2287800"/>
                <a:gridCol w="1946160"/>
              </a:tblGrid>
              <a:tr h="60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GIONI EUROPEE</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TASSI DI PREVALENZA BRONCOPNEUMOPATIE</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TASSI DI RICOVERO PER BRONCOPNEUMIPATIE</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TASSO DI RICOVERO PER ASMA BONCH.</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8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endParaRPr b="0" lang="en-US" sz="13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TALIA</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4,5 (2005)</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4,1 (2005)</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4</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GRECIA</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3,1 (2004)</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SVIZZERA</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2,1  (2005)</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1,1  (2003)</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6</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FRANCIA</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8  (2002)</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6</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BELGIO</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53 (2005)</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2,7 (2003)</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7</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GERMANIA</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3,2 (2005)</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1,8 (2002)</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4</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OLANDA</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2,2 (200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1,2 (2003)</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3</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GRAN BRETAGNA</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2,6 (2003)</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1,1</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NORVEGIA</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2,1 (200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2,1 (2003)</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9</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OLONIA</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3,1 (2003)</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0,9</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OMANIA</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12,1 (200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5,1 (200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1,8</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919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UNGHERIA</a:t>
                      </a:r>
                      <a:endParaRPr b="0" lang="en-US" sz="13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9,3  (2006)</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a:t>
                      </a:r>
                      <a:endParaRPr b="0" lang="en-US" sz="13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a:t>
                      </a:r>
                      <a:endParaRPr b="0" lang="en-US" sz="1300" spc="-1" strike="noStrike">
                        <a:solidFill>
                          <a:srgbClr val="000000"/>
                        </a:solidFill>
                        <a:latin typeface="Arial"/>
                      </a:endParaRPr>
                    </a:p>
                  </a:txBody>
                  <a:tcPr anchor="b" marL="90000" marR="90000">
                    <a:lnL>
                      <a:noFill/>
                    </a:lnL>
                    <a:lnR w="5760">
                      <a:solidFill>
                        <a:srgbClr val="000000"/>
                      </a:solid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4:17:35Z</dcterms:created>
  <dc:creator>La Sapienza</dc:creator>
  <dc:description/>
  <dc:language>en-US</dc:language>
  <cp:lastModifiedBy>La Sapienza</cp:lastModifiedBy>
  <dcterms:modified xsi:type="dcterms:W3CDTF">2008-01-22T15:54:31Z</dcterms:modified>
  <cp:revision>7</cp:revision>
  <dc:subject/>
  <dc:title>MORBOSITA’ ,LETALITA’ E MORTALITA’ DELLE AFFEZIONI BRONCOPOLMONARI OGGI</dc:title>
</cp:coreProperties>
</file>